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E026-1A2E-4FB8-A1D0-15114AD88524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Čuvar mesta za broj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F21D-4EA7-4FBB-977B-11FE0501AC07}" type="slidenum">
              <a:rPr b="0" lang="sr-Latn-R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C28C1-882D-4303-AEBF-96B6A7BD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45CFA-1EB2-4232-9198-51280F0F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F6A7-05DB-4EA2-8ADD-7476BE0B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692EC-C3C1-4848-9831-A5B6112B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0C82-DBFD-4D96-B200-201309CB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CCC4-760B-4681-8C91-3D3EAA36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66ED-72F8-4C26-847F-933D84C3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2E06-334A-4144-A1A8-E00BB6EB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018D-D82A-4BFF-BA87-14A970D9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87F8-E9CA-4817-A7A1-52CCF2A4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4F54-0CC7-4271-B527-3E7A7A2D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C9A86-E7AC-43DE-98FD-970A19E2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6AB7-91FB-44CC-8E9D-3CDB6A9C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4ACA-B288-4D94-B990-7EF95806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31E9-83B9-4BF1-A754-FBC6C05B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B40E-C38D-4774-AD39-8C58DEEE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A65F-79B0-4713-BC12-13F0AA0E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3D20-7432-43A7-A86A-50B13FBC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6A6E-F132-4296-AD6B-F3B08B2C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16F88-83F2-42FB-B0ED-846306EB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8BE59-06C1-4E1A-A086-91532FBE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BE80-E837-47E5-9A91-A5A5FE98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16CBE-EDD5-4B38-89AC-98B59293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0F815-5369-4E8E-BC67-B7A4AB31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0431-9A10-4784-8AEE-1EB169ECC5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3323-6C2A-4D19-8CA3-90045B7C07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sr-CS" sz="5400" spc="-1" strike="noStrike">
                <a:solidFill>
                  <a:srgbClr val="fbfb6b"/>
                </a:solidFill>
                <a:latin typeface="Garamond"/>
              </a:rPr>
              <a:t>Скоринг системи у траум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Доц. др Драгче Радованови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КЦ Крагујева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Факултет медицинских нау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Универзитет у Крагујевц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5" descr="MFgrb"/>
          <p:cNvPicPr/>
          <p:nvPr/>
        </p:nvPicPr>
        <p:blipFill>
          <a:blip r:embed="rId1"/>
          <a:stretch/>
        </p:blipFill>
        <p:spPr>
          <a:xfrm>
            <a:off x="3924360" y="0"/>
            <a:ext cx="7048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bfb6b"/>
                </a:solidFill>
                <a:latin typeface="Garamond"/>
              </a:rPr>
              <a:t>Анатомски бодовни систе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Скраћена скала повреда - </a:t>
            </a:r>
            <a:r>
              <a:rPr b="0" lang="en-GB" sz="2800" spc="-1" strike="noStrike">
                <a:solidFill>
                  <a:srgbClr val="fbfb6b"/>
                </a:solidFill>
                <a:latin typeface="Garamond"/>
              </a:rPr>
              <a:t>Abbreviated Injury Scale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AIS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Анатомски профил -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bfb6b"/>
                </a:solidFill>
                <a:latin typeface="Garamond"/>
              </a:rPr>
              <a:t>The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bfb6b"/>
                </a:solidFill>
                <a:latin typeface="Garamond"/>
              </a:rPr>
              <a:t>Anatomic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bfb6b"/>
                </a:solidFill>
                <a:latin typeface="Garamond"/>
              </a:rPr>
              <a:t>Profile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0" lang="en-US" sz="2800" spc="-1" strike="noStrike">
                <a:solidFill>
                  <a:srgbClr val="fbfb6b"/>
                </a:solidFill>
                <a:latin typeface="Garamond"/>
              </a:rPr>
              <a:t>AP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Скал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a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повреда органа – </a:t>
            </a:r>
            <a:r>
              <a:rPr b="0" lang="en-US" sz="2800" spc="-1" strike="noStrike">
                <a:solidFill>
                  <a:srgbClr val="fbfb6b"/>
                </a:solidFill>
                <a:latin typeface="Garamond"/>
              </a:rPr>
              <a:t>Organ injury scale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OIS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Индекс пенетрантне абдоминалне трауме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 - </a:t>
            </a:r>
            <a:r>
              <a:rPr b="0" lang="en-GB" sz="2800" spc="-1" strike="noStrike">
                <a:solidFill>
                  <a:srgbClr val="fbfb6b"/>
                </a:solidFill>
                <a:latin typeface="Garamond"/>
              </a:rPr>
              <a:t>Penetrating Abdominal Trauma Index (PAT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Акутна физиолошка и хронична здравствена евалуација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en-US" sz="2800" spc="-1" strike="noStrike">
                <a:solidFill>
                  <a:srgbClr val="fbfb6b"/>
                </a:solidFill>
                <a:latin typeface="Garamond"/>
              </a:rPr>
              <a:t>Acute Physiology and Chronic Health Evaluation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bfb6b"/>
                </a:solidFill>
                <a:latin typeface="Garamond"/>
              </a:rPr>
              <a:t>(APACH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bfb6b"/>
                </a:solidFill>
                <a:latin typeface="Garamond"/>
              </a:rPr>
              <a:t>Анатомски бодовни систе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Узастопна процена неуспеха органа -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Sequential Organ Failure Assessment Score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(SOF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Скор синдром системског инфламаторног одговора - 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Systemic Inflammatory Response Syndrome Score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(SI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Ургентни траума скор -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Emergency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Trauma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Score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EMTRAS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Скраћена скала повреда -  </a:t>
            </a:r>
            <a:r>
              <a:rPr b="1" i="1" lang="en-GB" sz="4000" spc="-1" strike="noStrike">
                <a:solidFill>
                  <a:srgbClr val="fbfb6b"/>
                </a:solidFill>
                <a:latin typeface="Garamond"/>
              </a:rPr>
              <a:t>Abbreviated Injury Scale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AIS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bfb6b"/>
                </a:solidFill>
                <a:uFillTx/>
                <a:latin typeface="Garamond"/>
              </a:rPr>
              <a:t>ISS </a:t>
            </a:r>
            <a:r>
              <a:rPr b="0" lang="sr-CS" sz="3200" spc="-1" strike="noStrike" u="sng">
                <a:solidFill>
                  <a:srgbClr val="fbfb6b"/>
                </a:solidFill>
                <a:uFillTx/>
                <a:latin typeface="Garamond"/>
              </a:rPr>
              <a:t>региони те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bfb6b"/>
                </a:solidFill>
                <a:uFillTx/>
                <a:latin typeface="Garamond"/>
              </a:rPr>
              <a:t>број</a:t>
            </a:r>
            <a:r>
              <a:rPr b="1" lang="en-GB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1" lang="sr-CS" sz="3200" spc="-1" strike="noStrike">
                <a:solidFill>
                  <a:srgbClr val="fbfb6b"/>
                </a:solidFill>
                <a:latin typeface="Garamond"/>
              </a:rPr>
              <a:t>   </a:t>
            </a:r>
            <a:r>
              <a:rPr b="1" lang="en-GB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1" lang="sr-CS" sz="3200" spc="-1" strike="noStrike" u="sng">
                <a:solidFill>
                  <a:srgbClr val="fbfb6b"/>
                </a:solidFill>
                <a:uFillTx/>
                <a:latin typeface="Garamond"/>
              </a:rPr>
              <a:t>реги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1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Глава и вр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2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Лиц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3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Грудни кош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4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Трбу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5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Екстремите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6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Спољашњ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A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натомски профил -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The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Anatomic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Profile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AP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rcRect l="14584" t="26051" r="20834" b="45296"/>
          <a:stretch/>
        </p:blipFill>
        <p:spPr>
          <a:xfrm>
            <a:off x="1619280" y="1557360"/>
            <a:ext cx="6356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Акутна физиолошка и хронична здравствена евалуација</a:t>
            </a:r>
            <a:r>
              <a:rPr b="1" i="1" lang="sr-C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-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Acute Physiology and Chronic Health Evaluation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(APACHE)</a:t>
            </a:r>
            <a:br>
              <a:rPr sz="4000"/>
            </a:br>
            <a:r>
              <a:rPr b="1" i="1" lang="sr-CS" sz="2000" spc="-1" strike="noStrike">
                <a:solidFill>
                  <a:srgbClr val="e5e5ff"/>
                </a:solidFill>
                <a:latin typeface="Garamond"/>
              </a:rPr>
              <a:t>Представљање </a:t>
            </a:r>
            <a:r>
              <a:rPr b="1" i="1" lang="sr-Latn-CS" sz="2000" spc="-1" strike="noStrike">
                <a:solidFill>
                  <a:srgbClr val="e5e5ff"/>
                </a:solidFill>
                <a:latin typeface="Garamond"/>
              </a:rPr>
              <a:t>APACHE II </a:t>
            </a:r>
            <a:r>
              <a:rPr b="1" i="1" lang="sr-CS" sz="2000" spc="-1" strike="noStrike">
                <a:solidFill>
                  <a:srgbClr val="e5e5ff"/>
                </a:solidFill>
                <a:latin typeface="Garamond"/>
              </a:rPr>
              <a:t>прорачуна за хипотетичког пацијента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rcRect l="12481" t="20839" r="18750" b="29668"/>
          <a:stretch/>
        </p:blipFill>
        <p:spPr>
          <a:xfrm>
            <a:off x="1908000" y="2595600"/>
            <a:ext cx="53294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Скалирање повреда органа -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Organ injury scale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OIS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даје класификацију тежине повреде 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– 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број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бодова за поједине орган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OIS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је заснован на опису повреде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,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скалиран по вредности од 1 до 5, од најмање до најтеже повред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циљ је да пружи заједнички језик између трауме и  хирурга и да олакша истраживањ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e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и даље побољшање квалитета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лече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табеле су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на сајту Америчког удружења за хирургију трауме 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(AA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fbfb6b"/>
                </a:solidFill>
                <a:latin typeface="Garamond"/>
              </a:rPr>
              <a:t>I</a:t>
            </a:r>
            <a:r>
              <a:rPr b="1" lang="ru-RU" sz="4000" spc="-1" strike="noStrike">
                <a:solidFill>
                  <a:srgbClr val="fbfb6b"/>
                </a:solidFill>
                <a:latin typeface="Garamond"/>
              </a:rPr>
              <a:t>ндекс </a:t>
            </a:r>
            <a:r>
              <a:rPr b="1" lang="sr-CS" sz="4000" spc="-1" strike="noStrike">
                <a:solidFill>
                  <a:srgbClr val="fbfb6b"/>
                </a:solidFill>
                <a:latin typeface="Garamond"/>
              </a:rPr>
              <a:t>пенетрантне</a:t>
            </a:r>
            <a:r>
              <a:rPr b="1" lang="ru-RU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lang="sr-CS" sz="4000" spc="-1" strike="noStrike">
                <a:solidFill>
                  <a:srgbClr val="fbfb6b"/>
                </a:solidFill>
                <a:latin typeface="Garamond"/>
              </a:rPr>
              <a:t>а</a:t>
            </a:r>
            <a:r>
              <a:rPr b="1" lang="ru-RU" sz="4000" spc="-1" strike="noStrike">
                <a:solidFill>
                  <a:srgbClr val="fbfb6b"/>
                </a:solidFill>
                <a:latin typeface="Garamond"/>
              </a:rPr>
              <a:t>бдоминалн</a:t>
            </a:r>
            <a:r>
              <a:rPr b="1" lang="sr-Latn-CS" sz="4000" spc="-1" strike="noStrike">
                <a:solidFill>
                  <a:srgbClr val="fbfb6b"/>
                </a:solidFill>
                <a:latin typeface="Garamond"/>
              </a:rPr>
              <a:t>e</a:t>
            </a:r>
            <a:r>
              <a:rPr b="1" lang="ru-RU" sz="4000" spc="-1" strike="noStrike">
                <a:solidFill>
                  <a:srgbClr val="fbfb6b"/>
                </a:solidFill>
                <a:latin typeface="Garamond"/>
              </a:rPr>
              <a:t> траум</a:t>
            </a:r>
            <a:r>
              <a:rPr b="1" lang="sr-Latn-CS" sz="4000" spc="-1" strike="noStrike">
                <a:solidFill>
                  <a:srgbClr val="fbfb6b"/>
                </a:solidFill>
                <a:latin typeface="Garamond"/>
              </a:rPr>
              <a:t>e</a:t>
            </a:r>
            <a:r>
              <a:rPr b="1" lang="ru-RU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lang="sr-Latn-CS" sz="4000" spc="-1" strike="noStrike">
                <a:solidFill>
                  <a:srgbClr val="fbfb6b"/>
                </a:solidFill>
                <a:latin typeface="Garamond"/>
              </a:rPr>
              <a:t>- </a:t>
            </a:r>
            <a:r>
              <a:rPr b="1" i="1" lang="en-GB" sz="4000" spc="-1" strike="noStrike">
                <a:solidFill>
                  <a:srgbClr val="fbfb6b"/>
                </a:solidFill>
                <a:latin typeface="Garamond"/>
              </a:rPr>
              <a:t>Penetrating Abdominal Trauma Index (PATI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Систем бодовања за пацијенте који имају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пенетрацију трбух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Бодује 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сваки орган који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је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 укључен, а затим помножи са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проценом 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озбиљности повред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Свак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ом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 фактор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у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 је дата вредност у распону од 1 до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О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зна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ке 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за свак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и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 орган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су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 заснован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е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 на учесталост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и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 постоперативн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ог морбидитета повезаног са одговарајућом повред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Озбиљност повреда је процењен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а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с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краћено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м скалом п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овреда, где су 1 = минималне повреде, 5 = максималне повред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Збир појединачних органа пута фактор ризика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даје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 резултат коначног </a:t>
            </a:r>
            <a:r>
              <a:rPr b="0" lang="en-GB" sz="2400" spc="-1" strike="noStrike">
                <a:solidFill>
                  <a:srgbClr val="fbfb6b"/>
                </a:solidFill>
                <a:latin typeface="Garamond"/>
              </a:rPr>
              <a:t>PATI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 ско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Ако је </a:t>
            </a:r>
            <a:r>
              <a:rPr b="0" lang="en-GB" sz="2400" spc="-1" strike="noStrike">
                <a:solidFill>
                  <a:srgbClr val="fbfb6b"/>
                </a:solidFill>
                <a:latin typeface="Garamond"/>
              </a:rPr>
              <a:t>PATI 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≤</a:t>
            </a:r>
            <a:r>
              <a:rPr b="0" lang="en-GB" sz="24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25 ризик од компликација се смањује, ако ј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&gt; 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25 ризици су много већи, ако је ≤ 10 нема компликац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Скор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sr-CS" sz="4400" spc="-1" strike="noStrike">
                <a:solidFill>
                  <a:srgbClr val="fbfb6b"/>
                </a:solidFill>
                <a:latin typeface="Garamond"/>
              </a:rPr>
              <a:t>узастопн</a:t>
            </a:r>
            <a:r>
              <a:rPr b="1" i="1" lang="sr-Latn-CS" sz="4400" spc="-1" strike="noStrike">
                <a:solidFill>
                  <a:srgbClr val="fbfb6b"/>
                </a:solidFill>
                <a:latin typeface="Garamond"/>
              </a:rPr>
              <a:t>e</a:t>
            </a:r>
            <a:r>
              <a:rPr b="1" i="1" lang="sr-CS" sz="4400" spc="-1" strike="noStrike">
                <a:solidFill>
                  <a:srgbClr val="fbfb6b"/>
                </a:solidFill>
                <a:latin typeface="Garamond"/>
              </a:rPr>
              <a:t> процен</a:t>
            </a:r>
            <a:r>
              <a:rPr b="1" i="1" lang="sr-Latn-CS" sz="4400" spc="-1" strike="noStrike">
                <a:solidFill>
                  <a:srgbClr val="fbfb6b"/>
                </a:solidFill>
                <a:latin typeface="Garamond"/>
              </a:rPr>
              <a:t>e</a:t>
            </a:r>
            <a:r>
              <a:rPr b="1" i="1" lang="sr-CS" sz="4400" spc="-1" strike="noStrike">
                <a:solidFill>
                  <a:srgbClr val="fbfb6b"/>
                </a:solidFill>
                <a:latin typeface="Garamond"/>
              </a:rPr>
              <a:t> неуспеха органа</a:t>
            </a:r>
            <a:r>
              <a:rPr b="1" lang="sr-CS" sz="44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lang="sr-Latn-CS" sz="4400" spc="-1" strike="noStrike">
                <a:solidFill>
                  <a:srgbClr val="fbfb6b"/>
                </a:solidFill>
                <a:latin typeface="Garamond"/>
              </a:rPr>
              <a:t>-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Sequential Organ Failure Assessment Score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(SOFA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Систем бодовања 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-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утврди степен функције органа или стопу попуштња у критично оболелих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/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повређених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пацијен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Оцена се заснива на 6 различитих параметара. То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су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дисајни систем (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PaO2/FiO2, mm Hg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кардиоваскуларни систем (крвни притиса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k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/васопресори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јетра (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bilirubin, mg/dL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)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коагулациони систем (тромбоцити х 103/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mm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3)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бубрези (креатинин, 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mg/dL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),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неуролошки систем (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Glasgov coma Scale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Скор синдром системског инфламаторног одговора 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-</a:t>
            </a:r>
            <a:r>
              <a:rPr b="1" lang="sr-Latn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Systemic Inflammatory Response Syndrome Score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(SIRS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Скор синдром системског инфламаторног одговора (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SIRS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) је уопштен одговор на неспецифичне повреде, укључујући и инфекције, панкреатитис, повреде и опекотин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Да би се израчунао 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SIRS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 скор, свакој од следећих компоненти се додељује 1 поен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грозница или хипотермиј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a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 (температура, &gt; 38 ° С или &lt;36 ° С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тахипнеа (респираторна стопа, &gt; 20 удисаја/мин или 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PaCO2 &lt;32 mm Hg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тахикардија (пулс, &gt; 90 откуцаја/мин)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леукоцитоза или леукопенија (број леукоцита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&gt; 12.000/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mm3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 или &lt;4.000/ 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mm3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SIRS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 скор може да варира од 0-4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Ургентни траума скор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 -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Emergency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Trauma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Score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EMTRAS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Користи параметре који су доступни у року од 30 минут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Не захтева познавање анатомских повре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Тачно предвиђа морталите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EMTRAS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 обухвата 4 параметра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bfb6b"/>
                </a:solidFill>
                <a:latin typeface="Garamond"/>
              </a:rPr>
              <a:t>старост болесник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bfb6b"/>
                </a:solidFill>
                <a:latin typeface="Garamond"/>
              </a:rPr>
              <a:t>Гласгов кома скал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bfb6b"/>
                </a:solidFill>
                <a:latin typeface="Garamond"/>
              </a:rPr>
              <a:t>базни ексце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bfb6b"/>
                </a:solidFill>
                <a:latin typeface="Garamond"/>
              </a:rPr>
              <a:t>протромбинско време (ПТ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Резултати од 0, 1, 2 и 3, су додељени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bfb6b"/>
                </a:solidFill>
                <a:latin typeface="Garamond"/>
              </a:rPr>
              <a:t>старост: &lt;40 година, 40-60 година, 61-75 година, &gt; 75 годин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bfb6b"/>
                </a:solidFill>
                <a:latin typeface="Garamond"/>
              </a:rPr>
              <a:t>Гласгов кома скала: 13-15, 10-12 , 6-9, и 3-5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bfb6b"/>
                </a:solidFill>
                <a:latin typeface="Garamond"/>
              </a:rPr>
              <a:t>базни ексцес: &gt; -1, -5 до -1, -10 до -5.1, 10 или мањ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bfb6b"/>
                </a:solidFill>
                <a:latin typeface="Garamond"/>
              </a:rPr>
              <a:t>протромбинско време: &lt;80%, 80-50%, 49-20 %, а&gt; 20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fb6b"/>
                </a:solidFill>
                <a:latin typeface="Garamond"/>
              </a:rPr>
              <a:t>УВ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Процене озбиљности повреде или болести, су основ медицинске праксе.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У н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ајранији познати медицински текст, Смит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ов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 папирус, сврстана 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с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у три разреда повреде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: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из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лечиве, спорне и 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нелечив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Модерн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а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 методологија бодовања трауме користи комбинацију процен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е 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степена анатомског оштећења са квантификациј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ом 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 степен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а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 физиолошк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ог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 растројств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а да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 би се дошло до резултата који корелирају са клиничк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и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м исход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fbfb6b"/>
              </a:solidFill>
              <a:uFillTx/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Траума 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скоринг</a:t>
            </a: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 системи су дизајниран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да омогуће</a:t>
            </a:r>
            <a:r>
              <a:rPr b="0" lang="sr-Latn-CS" sz="3200" spc="-1" strike="noStrike">
                <a:solidFill>
                  <a:srgbClr val="fbfb6b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пре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-хоспиталну тријаж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идентификацију пацијената 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код којих се може одложити третман или 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омогућавају прецизно поређење различитих популација трау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као и организовање и побољшање система трау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bfb6b"/>
                </a:solidFill>
                <a:latin typeface="Garamond"/>
              </a:rPr>
              <a:t>Физиолошки бодовни систе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Глазгов кома скор - </a:t>
            </a:r>
            <a:r>
              <a:rPr b="0" lang="sr-Latn-CS" sz="3200" spc="-1" strike="noStrike">
                <a:solidFill>
                  <a:srgbClr val="fbfb6b"/>
                </a:solidFill>
                <a:latin typeface="Garamond"/>
              </a:rPr>
              <a:t>Glasgov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C</a:t>
            </a:r>
            <a:r>
              <a:rPr b="0" lang="sr-Latn-CS" sz="3200" spc="-1" strike="noStrike">
                <a:solidFill>
                  <a:srgbClr val="fbfb6b"/>
                </a:solidFill>
                <a:latin typeface="Garamond"/>
              </a:rPr>
              <a:t>oma Scale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GC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Ревидирани траума скор -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Revised Trauma Sco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(</a:t>
            </a:r>
            <a:r>
              <a:rPr b="0" lang="sr-Latn-CS" sz="3200" spc="-1" strike="noStrike">
                <a:solidFill>
                  <a:srgbClr val="fbfb6b"/>
                </a:solidFill>
                <a:latin typeface="Garamond"/>
              </a:rPr>
              <a:t>RTS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Р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езулта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т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 озбиљности 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т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раум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е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 и повред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е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Trauma and Injury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Severity Score</a:t>
            </a: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TRISS</a:t>
            </a: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Карактеристике тежине повреда - </a:t>
            </a:r>
            <a:r>
              <a:rPr b="0" lang="en-GB" sz="3200" spc="-1" strike="noStrike">
                <a:solidFill>
                  <a:srgbClr val="fbfb6b"/>
                </a:solidFill>
                <a:latin typeface="Garamond"/>
              </a:rPr>
              <a:t>A Severity Characterisation of Trauma (ASCOT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Дечији траума скор - </a:t>
            </a:r>
            <a:r>
              <a:rPr b="0" lang="en-GB" sz="3200" spc="-1" strike="noStrike">
                <a:solidFill>
                  <a:srgbClr val="fbfb6b"/>
                </a:solidFill>
                <a:latin typeface="Garamond"/>
              </a:rPr>
              <a:t>Paediatric Trauma Score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Latn-CS" sz="3200" spc="-1" strike="noStrike">
                <a:solidFill>
                  <a:srgbClr val="fbfb6b"/>
                </a:solidFill>
                <a:latin typeface="Garamond"/>
              </a:rPr>
              <a:t>(P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Глазгов кома скор - 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Glasgov coma Scale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GCS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109" descr=""/>
          <p:cNvPicPr/>
          <p:nvPr/>
        </p:nvPicPr>
        <p:blipFill>
          <a:blip r:embed="rId1"/>
          <a:srcRect l="27082" t="31237" r="18750" b="19466"/>
          <a:stretch/>
        </p:blipFill>
        <p:spPr>
          <a:xfrm>
            <a:off x="1476360" y="1557360"/>
            <a:ext cx="635796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Ревидирани траума скор 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-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Revised Trauma Score</a:t>
            </a: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(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RTS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16668" t="26051" r="16668" b="24457"/>
          <a:stretch/>
        </p:blipFill>
        <p:spPr>
          <a:xfrm>
            <a:off x="1619280" y="1501920"/>
            <a:ext cx="640872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Р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езулта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т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 озбиљности 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т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раум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е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 и повред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е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-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Trauma and Injury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severity score</a:t>
            </a:r>
            <a:r>
              <a:rPr b="1" i="1" lang="ru-RU" sz="40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TRISS</a:t>
            </a:r>
            <a:r>
              <a:rPr b="1" i="1" lang="ru-RU" sz="40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578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P(s) = 1/(1 + e-b)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═b0+b1(RTS-</a:t>
            </a:r>
            <a:r>
              <a:rPr b="0" lang="en-US" sz="1800" spc="-1" strike="noStrike">
                <a:solidFill>
                  <a:srgbClr val="fbfb6b"/>
                </a:solidFill>
                <a:latin typeface="Garamond"/>
              </a:rPr>
              <a:t>Revised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bfb6b"/>
                </a:solidFill>
                <a:latin typeface="Garamond"/>
              </a:rPr>
              <a:t>trauma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bfb6b"/>
                </a:solidFill>
                <a:latin typeface="Garamond"/>
              </a:rPr>
              <a:t>score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)+b2(ISS-Injury severity score</a:t>
            </a:r>
            <a:r>
              <a:rPr b="0" lang="sr-Latn-C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)+b3(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индекс старосне доби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Ps – вероватноћа преживљавања се креће 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у распону од нула (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где се 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опстанак не очекује) до 1 за пацијента са 100% очекивањ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а 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да прежив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-коефицијенти су изведени из 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MTOS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(</a:t>
            </a:r>
            <a:r>
              <a:rPr b="0" lang="sr-Latn-CS" sz="1600" spc="-1" strike="noStrike">
                <a:solidFill>
                  <a:srgbClr val="fbfb6b"/>
                </a:solidFill>
                <a:latin typeface="Garamond"/>
              </a:rPr>
              <a:t>Multycentric trauma observation study</a:t>
            </a:r>
            <a:r>
              <a:rPr b="0" lang="sr-Latn-CS" sz="1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базе подата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Контузиона повреда                                                       Пенетрантна повреда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о = -1,2470                                                                                     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═ 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-0,602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1 = 0,9544                                                                                      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═ 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1,143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2 = -0,0768                                                                                     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═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  -0,151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3 = -1,9052                                                                                     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═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  -2,667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Карактеристике тежине повреда</a:t>
            </a:r>
            <a:r>
              <a:rPr b="1" lang="sr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lang="sr-Latn-CS" sz="4000" spc="-1" strike="noStrike">
                <a:solidFill>
                  <a:srgbClr val="fbfb6b"/>
                </a:solidFill>
                <a:latin typeface="Garamond"/>
              </a:rPr>
              <a:t>-</a:t>
            </a:r>
            <a:r>
              <a:rPr b="1" i="1" lang="en-GB" sz="4000" spc="-1" strike="noStrike">
                <a:solidFill>
                  <a:srgbClr val="fbfb6b"/>
                </a:solidFill>
                <a:latin typeface="Garamond"/>
              </a:rPr>
              <a:t>A Severity Characterisation of Trauma (ASCOT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10402" t="23445" r="18750" b="34799"/>
          <a:stretch/>
        </p:blipFill>
        <p:spPr>
          <a:xfrm>
            <a:off x="1403280" y="1844640"/>
            <a:ext cx="6121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Дечији траума скор 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-</a:t>
            </a:r>
            <a:r>
              <a:rPr b="1" lang="sr-Latn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GB" sz="4000" spc="-1" strike="noStrike">
                <a:solidFill>
                  <a:srgbClr val="fbfb6b"/>
                </a:solidFill>
                <a:latin typeface="Garamond"/>
              </a:rPr>
              <a:t>Paediatric Trauma Score</a:t>
            </a:r>
            <a:r>
              <a:rPr b="1" lang="sr-Latn-CS" sz="4000" spc="-1" strike="noStrike">
                <a:solidFill>
                  <a:srgbClr val="fbfb6b"/>
                </a:solidFill>
                <a:latin typeface="Garamond"/>
              </a:rPr>
              <a:t> (PTS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16692" t="20839" r="16553" b="16945"/>
          <a:stretch/>
        </p:blipFill>
        <p:spPr>
          <a:xfrm>
            <a:off x="1116000" y="1411200"/>
            <a:ext cx="657396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2:20:36Z</dcterms:created>
  <dc:creator>XP</dc:creator>
  <dc:description/>
  <dc:language>en-US</dc:language>
  <cp:lastModifiedBy>Marko Spasić</cp:lastModifiedBy>
  <dcterms:modified xsi:type="dcterms:W3CDTF">2015-09-09T15:11:50Z</dcterms:modified>
  <cp:revision>96</cp:revision>
  <dc:subject/>
  <dc:title>Slide 1</dc:title>
</cp:coreProperties>
</file>